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5E52-7496-4D92-9A1B-C70A6B9CB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1E07-B8DE-455E-B708-39DB3DEB4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5174-8C92-4FC6-A452-A2EA97741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AE4A-0143-49F7-9404-4ABCDDF2B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A85BA-4379-46E2-8779-F27EE39AE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3CED3-DB6D-47D8-8BF7-A7E769AE8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E4F1A-173C-49B9-B950-97A242DE6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91F9D-35CF-4D44-8B13-DF06BD852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243F3-9C38-4366-B963-053687478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D635A-B5CD-4CE4-9204-D0F367F98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70ECF-B788-40B1-9FDD-24AA2DDE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704E-8547-4E5A-B2E9-BDEA824BB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D5F6F-0755-45E0-A7DD-90D7422A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1ACC8-2B7E-4888-A701-B9CEBE95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969F0-6FE9-46EA-849B-E3720D181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4760D-6F41-4E41-9C8E-AA278594F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95426-F7E7-4CC8-B2D3-62A4D98A2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774A-BFA5-4211-8D7D-4066AB71F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5EE7-AE86-404B-8433-1E9FFBC02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43B3-BC8A-43E5-9EB6-D8F3B1640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3565-9AB4-422D-B325-AB7C19D1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652F-85E0-4268-8C92-DC3EB259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5214-507D-4F68-B382-3C59766B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7F69-5020-4C2D-AB22-DD5D5026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3B6F5-7310-4B27-AA49-B8F61E63C72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A36BD-C9D4-40F0-BEA3-E47232136B1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foto.mail.ru/bk/mycheglov/_mydialog/65.html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63640" y="1125000"/>
            <a:ext cx="69120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SOME VIEWS </a:t>
            </a:r>
            <a:br>
              <a:rPr sz="2800"/>
            </a:b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ON THE FINANCIAL ARCHITECTURE </a:t>
            </a:r>
            <a:br>
              <a:rPr sz="2800"/>
            </a:b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IN EURASIA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Oleg M. Preksin                                                                       Vice President of the Association of Russian Banks</a:t>
            </a:r>
            <a:r>
              <a:rPr b="0" lang="ru-RU" sz="2100" spc="-1" strike="noStrike">
                <a:solidFill>
                  <a:srgbClr val="330033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330033"/>
                </a:solidFill>
                <a:latin typeface="Times New Roman"/>
              </a:rPr>
              <a:t>Inter-regional Banking Cooperation</a:t>
            </a: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330033"/>
                </a:solidFill>
                <a:latin typeface="Times New Roman"/>
              </a:rPr>
              <a:t>        </a:t>
            </a: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                          for </a:t>
            </a:r>
            <a:r>
              <a:rPr b="1" lang="en-GB" sz="2100" spc="-1" strike="noStrike">
                <a:solidFill>
                  <a:srgbClr val="330033"/>
                </a:solidFill>
                <a:latin typeface="Times New Roman"/>
              </a:rPr>
              <a:t>a Solid Financial Future</a:t>
            </a:r>
            <a:br>
              <a:rPr sz="2100"/>
            </a:b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ABA-EBF Conference - Baku</a:t>
            </a:r>
            <a:r>
              <a:rPr b="1" lang="ru-RU" sz="2100" spc="-1" strike="noStrike">
                <a:solidFill>
                  <a:srgbClr val="330033"/>
                </a:solidFill>
                <a:latin typeface="Times New Roman"/>
              </a:rPr>
              <a:t>, 27 </a:t>
            </a: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May</a:t>
            </a:r>
            <a:r>
              <a:rPr b="1" lang="ru-RU" sz="2100" spc="-1" strike="noStrike">
                <a:solidFill>
                  <a:srgbClr val="330033"/>
                </a:solidFill>
                <a:latin typeface="Times New Roman"/>
              </a:rPr>
              <a:t> 201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SSOCIATION OF RUSSIAN BANKS (ARB)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ON THE NATIONAL SCENE 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ND ACROSS THE GLOBAL ENVIRONMENT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bout 700 members across the country covering more then 90% of daily banking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ctive and efficient dialog with all the branches of power in Russia while defending the interests of banking community and securing economic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Cooperation with more then 30 national and international associations and other similar institutions around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Direct involvement in the global dialogue on international financial re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OVERVIEW OF FINANCIAL 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&amp; BUSINESS SITUATION: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inancial Crisis Dynamic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rom “sub-prime” mortgage credits to core</a:t>
            </a: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business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rom banks to most indus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rom one country to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rom sub-sovereign risks to sovereign guaranties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Is There Another “Big Blast” Ahea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POST SOVIET SPACE FINANCIAL DEVELOPMENT 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&amp; OTHER  EURASIA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Disintegration of the Post Soviet Space and its Con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Independent development: results vary substa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Controversial trends still predom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What are the options in Euras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Inter-regional Banking Cooperation across the former-Soviet Un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Banking in Western 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Eastern Dimension for Banking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NEW FINANCIAL ORDER: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GLOBAL, LOCAL OR  REGIONAL REGULATIONS?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Job for Standard Setters: Principles or Prescrip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Will the National Regulators Have a Space for Flexibil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Is G20 the Best Option or there may be Alternativ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Joining Forces For for Solid Financial Future – just a Dream or the Foreseeable Scenario?</a:t>
            </a: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220760" y="40464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MULTI-POLE FINANCIAL FU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S THE MOST PROBABLE SCENARIO</a:t>
            </a: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478152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Москва. Кремль."/>
          <p:cNvPicPr/>
          <p:nvPr/>
        </p:nvPicPr>
        <p:blipFill>
          <a:blip r:embed="rId3"/>
          <a:stretch/>
        </p:blipFill>
        <p:spPr>
          <a:xfrm>
            <a:off x="6635880" y="477216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 rot="20799600">
            <a:off x="1476000" y="1817280"/>
            <a:ext cx="2057400" cy="1971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 rot="642600">
            <a:off x="6269040" y="1773000"/>
            <a:ext cx="2048040" cy="2016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rot="13333200">
            <a:off x="5938560" y="3990240"/>
            <a:ext cx="1081080" cy="4460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11600 h 446040"/>
              <a:gd name="textAreaBottom" fmla="*/ 334800 h 446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3333200">
            <a:off x="4211280" y="2477520"/>
            <a:ext cx="1081080" cy="4460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11600 h 446040"/>
              <a:gd name="textAreaBottom" fmla="*/ 334800 h 446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8919800">
            <a:off x="4304880" y="2491920"/>
            <a:ext cx="1130400" cy="390600"/>
          </a:xfrm>
          <a:custGeom>
            <a:avLst/>
            <a:gdLst>
              <a:gd name="textAreaLeft" fmla="*/ 176400 w 1130400"/>
              <a:gd name="textAreaRight" fmla="*/ 989280 w 1130400"/>
              <a:gd name="textAreaTop" fmla="*/ 97560 h 390600"/>
              <a:gd name="textAreaBottom" fmla="*/ 293040 h 390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8919800">
            <a:off x="4355640" y="5414760"/>
            <a:ext cx="1130400" cy="390240"/>
          </a:xfrm>
          <a:custGeom>
            <a:avLst/>
            <a:gdLst>
              <a:gd name="textAreaLeft" fmla="*/ 176400 w 1130400"/>
              <a:gd name="textAreaRight" fmla="*/ 989280 w 1130400"/>
              <a:gd name="textAreaTop" fmla="*/ 97560 h 390240"/>
              <a:gd name="textAreaBottom" fmla="*/ 292680 h 390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3333200">
            <a:off x="4284360" y="5373000"/>
            <a:ext cx="1081080" cy="4460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11600 h 446040"/>
              <a:gd name="textAreaBottom" fmla="*/ 334800 h 446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3333200">
            <a:off x="2698560" y="4004640"/>
            <a:ext cx="1081080" cy="4460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11600 h 446040"/>
              <a:gd name="textAreaBottom" fmla="*/ 334800 h 446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8919800">
            <a:off x="2700000" y="4046040"/>
            <a:ext cx="1130400" cy="390600"/>
          </a:xfrm>
          <a:custGeom>
            <a:avLst/>
            <a:gdLst>
              <a:gd name="textAreaLeft" fmla="*/ 176400 w 1130400"/>
              <a:gd name="textAreaRight" fmla="*/ 989280 w 1130400"/>
              <a:gd name="textAreaTop" fmla="*/ 97560 h 390600"/>
              <a:gd name="textAreaBottom" fmla="*/ 293040 h 390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8919800">
            <a:off x="5962320" y="4046040"/>
            <a:ext cx="1130400" cy="390600"/>
          </a:xfrm>
          <a:custGeom>
            <a:avLst/>
            <a:gdLst>
              <a:gd name="textAreaLeft" fmla="*/ 176400 w 1130400"/>
              <a:gd name="textAreaRight" fmla="*/ 989280 w 1130400"/>
              <a:gd name="textAreaTop" fmla="*/ 97560 h 390600"/>
              <a:gd name="textAreaBottom" fmla="*/ 293040 h 390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67120" y="4097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24360" y="3573360"/>
            <a:ext cx="2016000" cy="119124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OLD &amp; NEW FINA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CE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5T22:42:46Z</dcterms:created>
  <dc:creator>preksin_om</dc:creator>
  <dc:description/>
  <dc:language>en-US</dc:language>
  <cp:lastModifiedBy>preksin_om</cp:lastModifiedBy>
  <dcterms:modified xsi:type="dcterms:W3CDTF">2010-05-27T03:37:55Z</dcterms:modified>
  <cp:revision>53</cp:revision>
  <dc:subject/>
  <dc:title>ПЕРСПЕКТИВЫ ФОРМИРОВАНИЯ  ОБЩЕГО ПРОСТРАНСТВА РФ и ЕС  В СФЕРЕ ФИНАНСОВЫХ УСЛУГ</dc:title>
</cp:coreProperties>
</file>